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6.wmf" ContentType="image/x-wmf"/>
  <Override PartName="/ppt/media/image29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9875-D916-462D-BCA3-823C819BB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7EF-A899-463C-9C72-50E019EE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24F-263A-4A0D-85D8-783640D6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3CF-2BC5-4FF4-8441-63D0DD38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B88-E741-4AA2-AA4B-D1E1942D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95913-69C2-4F54-86B7-8826442A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6304B-1C22-493B-A91D-4E82EB48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90193-B88F-45EB-9511-0BBBA9BF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16A3C-9A89-4A8F-8756-58228D1D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BB017-C4F0-46C2-9DA7-AAF7A006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F854B-7416-488D-845C-29AF178F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316C5-DC59-4228-BE4D-70708BF8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3B9-AEB7-4604-B274-8C391F11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15530-CC50-431B-B164-C8F6EC58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E47C7-C9C5-4C68-8C9C-F583F88C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E98DB-E254-4AE5-A5A3-08702F11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1A956-C97F-4EF5-9C4A-47D5EFCC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37B72-26F2-4B49-B088-7397B4A9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3D6-0CD8-4290-9A23-D314BB34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F84-A116-4B42-B31D-E9BCF983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AC4-ED55-49B6-B7ED-7B908B12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472-DD6D-47B1-BACC-4A6F4FCF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063-5F75-4AE7-B4A9-46B2720A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C23-88A2-400B-98CD-DBCCAF42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4FD-1703-4C4F-AB93-B79F9A9E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4382-9018-489C-B268-E6AF16ADE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4BB5-A85E-4CE9-956C-C5CA0B340C5E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29528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Rad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Equatio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600200" y="457200"/>
          <a:ext cx="53942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3942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219320" y="457200"/>
          <a:ext cx="4422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442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685800" y="5720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= -1 is an extraneous solu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266840" y="866880"/>
          <a:ext cx="31194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866880"/>
                    <a:ext cx="31194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943960" y="1574640"/>
            <a:ext cx="31312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 so that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re will be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838080" y="1920960"/>
          <a:ext cx="29131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20960"/>
                    <a:ext cx="291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5945400" y="2717640"/>
            <a:ext cx="217116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44400" y="2514600"/>
          <a:ext cx="336888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2514600"/>
                    <a:ext cx="3368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5947200" y="3200400"/>
            <a:ext cx="122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31560" y="3092400"/>
            <a:ext cx="22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7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3960" y="4241880"/>
            <a:ext cx="2440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your solu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514440" y="4595760"/>
          <a:ext cx="34732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4595760"/>
                    <a:ext cx="347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14800" y="4648320"/>
          <a:ext cx="12985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648320"/>
                    <a:ext cx="1298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2"/>
          <p:cNvSpPr/>
          <p:nvPr/>
        </p:nvSpPr>
        <p:spPr>
          <a:xfrm>
            <a:off x="6005520" y="4799160"/>
            <a:ext cx="2347920" cy="13737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649040" y="914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-2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90160" y="91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960" y="475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267080"/>
            <a:ext cx="0" cy="2438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376200" y="5205240"/>
          <a:ext cx="2801880" cy="15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200" y="5205240"/>
                    <a:ext cx="2801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20"/>
          <p:cNvSpPr/>
          <p:nvPr/>
        </p:nvSpPr>
        <p:spPr>
          <a:xfrm>
            <a:off x="457200" y="4419720"/>
            <a:ext cx="4191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587600" y="4022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ffffcc"/>
            </a:gs>
            <a:gs pos="100000">
              <a:srgbClr val="bdffd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22480" y="-763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quaring a Binomi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90480" y="83808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2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4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346640" y="609480"/>
            <a:ext cx="391140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wice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duct of the two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erm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of the binomia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63680" y="501480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25920" y="2043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 5 + 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2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390920" y="2347920"/>
            <a:ext cx="299556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900000" y="2716200"/>
          <a:ext cx="2162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6200"/>
                    <a:ext cx="2162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1994040" y="20811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5562720" y="50529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669960" y="4024440"/>
          <a:ext cx="1920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4024440"/>
                    <a:ext cx="1920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5"/>
          <p:cNvSpPr/>
          <p:nvPr/>
        </p:nvSpPr>
        <p:spPr>
          <a:xfrm>
            <a:off x="228600" y="4024440"/>
            <a:ext cx="403848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785480" y="400860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648320" y="4011480"/>
            <a:ext cx="388620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762120" y="2576520"/>
            <a:ext cx="2438280" cy="1371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3225960" y="326232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3048120" y="2271600"/>
            <a:ext cx="1295280" cy="243000"/>
          </a:xfrm>
          <a:prstGeom prst="rightArrow">
            <a:avLst>
              <a:gd name="adj1" fmla="val 50000"/>
              <a:gd name="adj2" fmla="val 133259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17" name="Object 21"/>
          <p:cNvGraphicFramePr/>
          <p:nvPr/>
        </p:nvGraphicFramePr>
        <p:xfrm>
          <a:off x="380880" y="4786200"/>
          <a:ext cx="7621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8620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2"/>
          <p:cNvGraphicFramePr/>
          <p:nvPr/>
        </p:nvGraphicFramePr>
        <p:xfrm>
          <a:off x="1112760" y="4735440"/>
          <a:ext cx="173520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2760" y="4735440"/>
                    <a:ext cx="1735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3"/>
          <p:cNvGraphicFramePr/>
          <p:nvPr/>
        </p:nvGraphicFramePr>
        <p:xfrm>
          <a:off x="2895480" y="4767120"/>
          <a:ext cx="137160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767120"/>
                    <a:ext cx="13716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4"/>
          <p:cNvGraphicFramePr/>
          <p:nvPr/>
        </p:nvGraphicFramePr>
        <p:xfrm>
          <a:off x="380880" y="5319720"/>
          <a:ext cx="31244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319720"/>
                    <a:ext cx="3124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5"/>
          <p:cNvSpPr/>
          <p:nvPr/>
        </p:nvSpPr>
        <p:spPr>
          <a:xfrm>
            <a:off x="6589080" y="539604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6599160" y="50277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1077840" y="838080"/>
          <a:ext cx="35704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838080"/>
                    <a:ext cx="357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"/>
          <p:cNvSpPr/>
          <p:nvPr/>
        </p:nvSpPr>
        <p:spPr>
          <a:xfrm>
            <a:off x="5998320" y="609480"/>
            <a:ext cx="30700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 that there will be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nly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983920" y="2006640"/>
            <a:ext cx="2107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f the 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95080" y="355608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992200" y="4191120"/>
            <a:ext cx="289044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 by dividing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y a common factor of 2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81400" y="5257800"/>
            <a:ext cx="28522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 of the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38160" y="2209680"/>
          <a:ext cx="4114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2096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660240" y="3009960"/>
          <a:ext cx="9907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3009960"/>
                    <a:ext cx="990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" y="3568680"/>
          <a:ext cx="4114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68680"/>
                    <a:ext cx="4114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609480" y="4191120"/>
          <a:ext cx="2895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191120"/>
                    <a:ext cx="2895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914400" y="4800600"/>
          <a:ext cx="26668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266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571680" y="5334120"/>
          <a:ext cx="327636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5334120"/>
                    <a:ext cx="32763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4"/>
          <p:cNvGraphicFramePr/>
          <p:nvPr/>
        </p:nvGraphicFramePr>
        <p:xfrm>
          <a:off x="0" y="6095880"/>
          <a:ext cx="342900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6095880"/>
                    <a:ext cx="3429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5"/>
          <p:cNvSpPr/>
          <p:nvPr/>
        </p:nvSpPr>
        <p:spPr>
          <a:xfrm>
            <a:off x="5986440" y="6202440"/>
            <a:ext cx="1128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380880" y="1600200"/>
          <a:ext cx="342900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880" y="1600200"/>
                    <a:ext cx="342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7"/>
          <p:cNvSpPr/>
          <p:nvPr/>
        </p:nvSpPr>
        <p:spPr>
          <a:xfrm>
            <a:off x="5998320" y="2886120"/>
            <a:ext cx="13161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1663560" y="3013200"/>
          <a:ext cx="609840" cy="35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63560" y="3013200"/>
                    <a:ext cx="609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9"/>
          <p:cNvGraphicFramePr/>
          <p:nvPr/>
        </p:nvGraphicFramePr>
        <p:xfrm>
          <a:off x="2273400" y="2975040"/>
          <a:ext cx="16761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73400" y="2975040"/>
                    <a:ext cx="16761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0"/>
          <p:cNvGraphicFramePr/>
          <p:nvPr/>
        </p:nvGraphicFramePr>
        <p:xfrm>
          <a:off x="4038480" y="2975040"/>
          <a:ext cx="151128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2975040"/>
                    <a:ext cx="1511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22"/>
          <p:cNvSpPr/>
          <p:nvPr/>
        </p:nvSpPr>
        <p:spPr>
          <a:xfrm>
            <a:off x="77400" y="843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438640" y="144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952560" y="609480"/>
          <a:ext cx="35053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3505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3"/>
          <p:cNvSpPr/>
          <p:nvPr/>
        </p:nvSpPr>
        <p:spPr>
          <a:xfrm>
            <a:off x="5648400" y="533520"/>
            <a:ext cx="1944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istribute the 4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914400" y="1066680"/>
          <a:ext cx="35812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358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"/>
          <p:cNvSpPr/>
          <p:nvPr/>
        </p:nvSpPr>
        <p:spPr>
          <a:xfrm>
            <a:off x="5664600" y="107964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660240" y="1600200"/>
          <a:ext cx="266724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600200"/>
                    <a:ext cx="2667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5642640" y="1676520"/>
            <a:ext cx="2497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actor the quadratic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685800" y="2158920"/>
          <a:ext cx="26668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158920"/>
                    <a:ext cx="2666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"/>
          <p:cNvSpPr/>
          <p:nvPr/>
        </p:nvSpPr>
        <p:spPr>
          <a:xfrm>
            <a:off x="5641200" y="2438280"/>
            <a:ext cx="140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lve fo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40080" y="2590920"/>
            <a:ext cx="365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3 = 0    or  </a:t>
            </a: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7 = 0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3    or  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638680" y="3200400"/>
            <a:ext cx="2526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both solution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74" name="Object 12"/>
          <p:cNvGraphicFramePr/>
          <p:nvPr/>
        </p:nvGraphicFramePr>
        <p:xfrm>
          <a:off x="36360" y="4521240"/>
          <a:ext cx="4307040" cy="21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60" y="4521240"/>
                    <a:ext cx="430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3"/>
          <p:cNvGraphicFramePr/>
          <p:nvPr/>
        </p:nvGraphicFramePr>
        <p:xfrm>
          <a:off x="4875120" y="4495680"/>
          <a:ext cx="411948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5120" y="4495680"/>
                    <a:ext cx="411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4"/>
          <p:cNvGraphicFramePr/>
          <p:nvPr/>
        </p:nvGraphicFramePr>
        <p:xfrm>
          <a:off x="4191120" y="5562720"/>
          <a:ext cx="93492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5562720"/>
                    <a:ext cx="93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5"/>
          <p:cNvGraphicFramePr/>
          <p:nvPr/>
        </p:nvGraphicFramePr>
        <p:xfrm>
          <a:off x="8185320" y="5562720"/>
          <a:ext cx="88236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85320" y="5562720"/>
                    <a:ext cx="88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7"/>
          <p:cNvSpPr/>
          <p:nvPr/>
        </p:nvSpPr>
        <p:spPr>
          <a:xfrm>
            <a:off x="76680" y="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3733920" y="441972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457200" y="441972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68480" y="39466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8153280" y="443556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4876920" y="443556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388200" y="39625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more to see another extraneous solution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28600" y="114444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4"/>
          <p:cNvSpPr/>
          <p:nvPr/>
        </p:nvSpPr>
        <p:spPr>
          <a:xfrm>
            <a:off x="38862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adical is already isolat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2209680"/>
            <a:ext cx="1828800" cy="99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337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590920" y="2286000"/>
            <a:ext cx="11430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7339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62520" y="2590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must square the whole side NOT each term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228600" y="3657600"/>
                <a:ext cx="4427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11"/>
          <p:cNvSpPr/>
          <p:nvPr/>
        </p:nvSpPr>
        <p:spPr>
          <a:xfrm>
            <a:off x="4191120" y="2133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04920" y="4495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 you have a quadratic equation (has an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erm) get everything on one side = 0 and see if you can factor th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685800" y="6019920"/>
                <a:ext cx="2644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4952880" y="3962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MUST check these answer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5"/>
              <p:cNvSpPr txBox="1"/>
              <p:nvPr/>
            </p:nvSpPr>
            <p:spPr>
              <a:xfrm>
                <a:off x="4343400" y="5105520"/>
                <a:ext cx="375300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6"/>
              <p:cNvSpPr txBox="1"/>
              <p:nvPr/>
            </p:nvSpPr>
            <p:spPr>
              <a:xfrm>
                <a:off x="304920" y="220968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7"/>
          <p:cNvSpPr/>
          <p:nvPr/>
        </p:nvSpPr>
        <p:spPr>
          <a:xfrm>
            <a:off x="3809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must be FOIL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124080" y="2971800"/>
            <a:ext cx="685800" cy="533520"/>
          </a:xfrm>
          <a:custGeom>
            <a:avLst/>
            <a:gdLst/>
            <a:ahLst/>
            <a:rect l="l" t="t" r="r" b="b"/>
            <a:pathLst>
              <a:path w="432" h="400">
                <a:moveTo>
                  <a:pt x="432" y="384"/>
                </a:moveTo>
                <a:cubicBezTo>
                  <a:pt x="300" y="392"/>
                  <a:pt x="168" y="400"/>
                  <a:pt x="96" y="336"/>
                </a:cubicBezTo>
                <a:cubicBezTo>
                  <a:pt x="24" y="272"/>
                  <a:pt x="12" y="136"/>
                  <a:pt x="0" y="0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380880" y="4495680"/>
                <a:ext cx="3417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289080" y="5386320"/>
                <a:ext cx="3755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1"/>
              <p:cNvSpPr txBox="1"/>
              <p:nvPr/>
            </p:nvSpPr>
            <p:spPr>
              <a:xfrm>
                <a:off x="4419720" y="4952880"/>
                <a:ext cx="3608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22"/>
          <p:cNvSpPr/>
          <p:nvPr/>
        </p:nvSpPr>
        <p:spPr>
          <a:xfrm>
            <a:off x="6248520" y="5867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't work!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raneou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209680" y="6172200"/>
            <a:ext cx="12193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2222640" y="6019560"/>
            <a:ext cx="1206360" cy="67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60199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609480" y="6095880"/>
            <a:ext cx="1398600" cy="563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505320" y="457200"/>
            <a:ext cx="3657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914400" y="914400"/>
            <a:ext cx="8001000" cy="1724760"/>
            <a:chOff x="914400" y="914400"/>
            <a:chExt cx="8001000" cy="1724760"/>
          </a:xfrm>
        </p:grpSpPr>
        <p:sp>
          <p:nvSpPr>
            <p:cNvPr id="316" name="Text Box 29"/>
            <p:cNvSpPr/>
            <p:nvPr/>
          </p:nvSpPr>
          <p:spPr>
            <a:xfrm>
              <a:off x="914400" y="144792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solution that you find algebraically but DOES NOT make a true statement when you substitute it back into the equation.</a:t>
              </a:r>
              <a:endParaRPr b="0" lang="en-US" sz="2400" spc="-1" strike="noStrike">
                <a:solidFill>
                  <a:srgbClr val="6600cc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4190760" y="914400"/>
              <a:ext cx="763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's try another one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61920" y="952560"/>
                <a:ext cx="38480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4"/>
          <p:cNvSpPr/>
          <p:nvPr/>
        </p:nvSpPr>
        <p:spPr>
          <a:xfrm>
            <a:off x="4267080" y="1295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isolate the radic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096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1240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286000" y="1219320"/>
            <a:ext cx="45720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6960" y="2705040"/>
                <a:ext cx="341640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9"/>
          <p:cNvSpPr/>
          <p:nvPr/>
        </p:nvSpPr>
        <p:spPr>
          <a:xfrm>
            <a:off x="609480" y="2819520"/>
            <a:ext cx="1981440" cy="1066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666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3048120" y="2971800"/>
            <a:ext cx="6858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7339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681120" y="4133880"/>
                <a:ext cx="2598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14"/>
          <p:cNvSpPr/>
          <p:nvPr/>
        </p:nvSpPr>
        <p:spPr>
          <a:xfrm>
            <a:off x="4191120" y="213372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ince it is a 1/3 power this means the same as a cube root so cub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03848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olve for 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523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90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966960" y="5257800"/>
                <a:ext cx="197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9"/>
              <p:cNvSpPr txBox="1"/>
              <p:nvPr/>
            </p:nvSpPr>
            <p:spPr>
              <a:xfrm>
                <a:off x="1147680" y="5967360"/>
                <a:ext cx="163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0"/>
          <p:cNvSpPr/>
          <p:nvPr/>
        </p:nvSpPr>
        <p:spPr>
          <a:xfrm>
            <a:off x="350532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's check this answer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3833640" y="5257800"/>
                <a:ext cx="40896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2"/>
              <p:cNvSpPr txBox="1"/>
              <p:nvPr/>
            </p:nvSpPr>
            <p:spPr>
              <a:xfrm>
                <a:off x="3890880" y="6059520"/>
                <a:ext cx="1298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23"/>
          <p:cNvSpPr/>
          <p:nvPr/>
        </p:nvSpPr>
        <p:spPr>
          <a:xfrm>
            <a:off x="5324400" y="613584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267080" y="1828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that the 1/3 power means the same thing as a cube root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655640" y="696960"/>
          <a:ext cx="2170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696960"/>
                    <a:ext cx="2170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281160" y="747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20760" y="1585800"/>
            <a:ext cx="6019560" cy="3648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03160" y="5562720"/>
            <a:ext cx="3454560" cy="947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domain is 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range is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577600" y="-460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raphing a Radical Func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How Do We Solve Radical Equations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o Now: </a:t>
            </a:r>
            <a:r>
              <a:rPr b="0" i="1" lang="en-US" sz="3200" spc="-1" strike="noStrike">
                <a:solidFill>
                  <a:srgbClr val="6600cc"/>
                </a:solidFill>
                <a:latin typeface="Tahoma"/>
              </a:rPr>
              <a:t>Simplify the given expression.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1.                                   2. 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295280" cy="115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31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50000">
              <a:srgbClr val="ffffd9"/>
            </a:gs>
            <a:gs pos="100000">
              <a:srgbClr val="c9ffd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280" y="915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1603440"/>
            <a:ext cx="480060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Object 5"/>
          <p:cNvGraphicFramePr/>
          <p:nvPr/>
        </p:nvGraphicFramePr>
        <p:xfrm>
          <a:off x="1596960" y="930240"/>
          <a:ext cx="297972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930240"/>
                    <a:ext cx="297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6"/>
          <p:cNvSpPr/>
          <p:nvPr/>
        </p:nvSpPr>
        <p:spPr>
          <a:xfrm>
            <a:off x="5691960" y="8380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5681520" y="1641600"/>
          <a:ext cx="2428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1520" y="1641600"/>
                    <a:ext cx="2428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8"/>
          <p:cNvSpPr/>
          <p:nvPr/>
        </p:nvSpPr>
        <p:spPr>
          <a:xfrm>
            <a:off x="5666400" y="22096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590920" y="3203640"/>
            <a:ext cx="609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830560" y="3397320"/>
            <a:ext cx="2068920" cy="9471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44972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209680" y="4800600"/>
          <a:ext cx="234468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3446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13"/>
          <p:cNvSpPr/>
          <p:nvPr/>
        </p:nvSpPr>
        <p:spPr>
          <a:xfrm>
            <a:off x="4800600" y="4711680"/>
            <a:ext cx="0" cy="2057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014440" y="475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1981080" y="5410080"/>
          <a:ext cx="257040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10080"/>
                    <a:ext cx="2570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6"/>
          <p:cNvGraphicFramePr/>
          <p:nvPr/>
        </p:nvGraphicFramePr>
        <p:xfrm>
          <a:off x="2994120" y="5943600"/>
          <a:ext cx="157788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94120" y="5943600"/>
                    <a:ext cx="1577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7"/>
          <p:cNvGraphicFramePr/>
          <p:nvPr/>
        </p:nvGraphicFramePr>
        <p:xfrm>
          <a:off x="3444840" y="6405480"/>
          <a:ext cx="1127160" cy="40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4840" y="6405480"/>
                    <a:ext cx="1127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8"/>
          <p:cNvGraphicFramePr/>
          <p:nvPr/>
        </p:nvGraphicFramePr>
        <p:xfrm>
          <a:off x="5589720" y="4952880"/>
          <a:ext cx="1195200" cy="175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9720" y="4952880"/>
                    <a:ext cx="119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20"/>
          <p:cNvSpPr/>
          <p:nvPr/>
        </p:nvSpPr>
        <p:spPr>
          <a:xfrm>
            <a:off x="144792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2590920" y="4724280"/>
            <a:ext cx="3352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3645000" y="4251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e0e0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1523880" y="711360"/>
          <a:ext cx="39769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11360"/>
                    <a:ext cx="3976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3520" y="123516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289548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731520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458600" y="4572000"/>
            <a:ext cx="2395080" cy="947160"/>
          </a:xfrm>
          <a:prstGeom prst="rect">
            <a:avLst/>
          </a:prstGeom>
          <a:solidFill>
            <a:srgbClr val="ffffd9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  o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80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1744560" y="774720"/>
          <a:ext cx="267516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4560" y="774720"/>
                    <a:ext cx="2675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394960" y="988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5473800" y="1963800"/>
          <a:ext cx="2298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1963800"/>
                    <a:ext cx="2298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5411160" y="2589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s above the graph of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410080" y="373212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graphs intersect a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33520" y="1371600"/>
            <a:ext cx="2936880" cy="144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- 3 is defined only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9400" y="4951440"/>
            <a:ext cx="31554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0880" y="2971800"/>
            <a:ext cx="3733920" cy="18288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819520" y="4572000"/>
            <a:ext cx="4572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3030480" y="4046400"/>
            <a:ext cx="1038240" cy="755640"/>
          </a:xfrm>
          <a:custGeom>
            <a:avLst/>
            <a:gdLst/>
            <a:ahLst/>
            <a:rect l="l" t="t" r="r" b="b"/>
            <a:pathLst>
              <a:path w="654" h="476">
                <a:moveTo>
                  <a:pt x="17" y="465"/>
                </a:moveTo>
                <a:cubicBezTo>
                  <a:pt x="64" y="420"/>
                  <a:pt x="0" y="476"/>
                  <a:pt x="58" y="441"/>
                </a:cubicBezTo>
                <a:cubicBezTo>
                  <a:pt x="98" y="416"/>
                  <a:pt x="135" y="373"/>
                  <a:pt x="181" y="359"/>
                </a:cubicBezTo>
                <a:cubicBezTo>
                  <a:pt x="206" y="333"/>
                  <a:pt x="228" y="321"/>
                  <a:pt x="262" y="310"/>
                </a:cubicBezTo>
                <a:cubicBezTo>
                  <a:pt x="286" y="286"/>
                  <a:pt x="296" y="271"/>
                  <a:pt x="328" y="261"/>
                </a:cubicBezTo>
                <a:cubicBezTo>
                  <a:pt x="339" y="243"/>
                  <a:pt x="377" y="192"/>
                  <a:pt x="393" y="180"/>
                </a:cubicBezTo>
                <a:cubicBezTo>
                  <a:pt x="409" y="165"/>
                  <a:pt x="431" y="159"/>
                  <a:pt x="450" y="147"/>
                </a:cubicBezTo>
                <a:cubicBezTo>
                  <a:pt x="455" y="138"/>
                  <a:pt x="458" y="128"/>
                  <a:pt x="466" y="122"/>
                </a:cubicBezTo>
                <a:cubicBezTo>
                  <a:pt x="472" y="116"/>
                  <a:pt x="483" y="117"/>
                  <a:pt x="491" y="114"/>
                </a:cubicBezTo>
                <a:cubicBezTo>
                  <a:pt x="516" y="101"/>
                  <a:pt x="528" y="83"/>
                  <a:pt x="556" y="73"/>
                </a:cubicBezTo>
                <a:cubicBezTo>
                  <a:pt x="585" y="44"/>
                  <a:pt x="625" y="28"/>
                  <a:pt x="654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048120" y="45720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49a4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0968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81072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97" name="Object 19"/>
          <p:cNvGraphicFramePr/>
          <p:nvPr/>
        </p:nvGraphicFramePr>
        <p:xfrm>
          <a:off x="1371600" y="2106720"/>
          <a:ext cx="68580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2106720"/>
                    <a:ext cx="6858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dceaec"/>
            </a:gs>
            <a:gs pos="100000">
              <a:srgbClr val="bdff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601992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3"/>
          <p:cNvGraphicFramePr/>
          <p:nvPr/>
        </p:nvGraphicFramePr>
        <p:xfrm>
          <a:off x="1741320" y="723960"/>
          <a:ext cx="20052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723960"/>
                    <a:ext cx="200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4"/>
          <p:cNvSpPr/>
          <p:nvPr/>
        </p:nvSpPr>
        <p:spPr>
          <a:xfrm>
            <a:off x="6289560" y="4738680"/>
            <a:ext cx="2611440" cy="94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lt; 8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02720" y="3062160"/>
            <a:ext cx="28584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8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3164040"/>
            <a:ext cx="6019920" cy="20574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495680" y="2833560"/>
            <a:ext cx="533520" cy="609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724280" y="15379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1511280" y="15505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1523880" y="4433760"/>
            <a:ext cx="3200400" cy="762120"/>
          </a:xfrm>
          <a:prstGeom prst="leftRightArrow">
            <a:avLst>
              <a:gd name="adj1" fmla="val 33991"/>
              <a:gd name="adj2" fmla="val 55194"/>
            </a:avLst>
          </a:prstGeom>
          <a:solidFill>
            <a:srgbClr val="ff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≥ -1 and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&lt;  8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1503360" y="3137040"/>
            <a:ext cx="3265560" cy="1100160"/>
          </a:xfrm>
          <a:custGeom>
            <a:avLst/>
            <a:gdLst/>
            <a:ahLst/>
            <a:rect l="l" t="t" r="r" b="b"/>
            <a:pathLst>
              <a:path w="2057" h="693">
                <a:moveTo>
                  <a:pt x="0" y="693"/>
                </a:moveTo>
                <a:cubicBezTo>
                  <a:pt x="9" y="665"/>
                  <a:pt x="19" y="647"/>
                  <a:pt x="41" y="628"/>
                </a:cubicBezTo>
                <a:cubicBezTo>
                  <a:pt x="50" y="598"/>
                  <a:pt x="63" y="593"/>
                  <a:pt x="82" y="571"/>
                </a:cubicBezTo>
                <a:cubicBezTo>
                  <a:pt x="119" y="523"/>
                  <a:pt x="163" y="495"/>
                  <a:pt x="220" y="473"/>
                </a:cubicBezTo>
                <a:cubicBezTo>
                  <a:pt x="244" y="463"/>
                  <a:pt x="269" y="456"/>
                  <a:pt x="294" y="448"/>
                </a:cubicBezTo>
                <a:cubicBezTo>
                  <a:pt x="310" y="442"/>
                  <a:pt x="343" y="432"/>
                  <a:pt x="343" y="432"/>
                </a:cubicBezTo>
                <a:cubicBezTo>
                  <a:pt x="351" y="426"/>
                  <a:pt x="358" y="419"/>
                  <a:pt x="367" y="416"/>
                </a:cubicBezTo>
                <a:cubicBezTo>
                  <a:pt x="382" y="409"/>
                  <a:pt x="416" y="400"/>
                  <a:pt x="416" y="400"/>
                </a:cubicBezTo>
                <a:cubicBezTo>
                  <a:pt x="478" y="357"/>
                  <a:pt x="541" y="364"/>
                  <a:pt x="612" y="342"/>
                </a:cubicBezTo>
                <a:cubicBezTo>
                  <a:pt x="662" y="325"/>
                  <a:pt x="715" y="312"/>
                  <a:pt x="767" y="302"/>
                </a:cubicBezTo>
                <a:cubicBezTo>
                  <a:pt x="796" y="272"/>
                  <a:pt x="834" y="273"/>
                  <a:pt x="873" y="261"/>
                </a:cubicBezTo>
                <a:cubicBezTo>
                  <a:pt x="922" y="211"/>
                  <a:pt x="1063" y="196"/>
                  <a:pt x="1135" y="187"/>
                </a:cubicBezTo>
                <a:cubicBezTo>
                  <a:pt x="1219" y="158"/>
                  <a:pt x="1297" y="152"/>
                  <a:pt x="1388" y="146"/>
                </a:cubicBezTo>
                <a:cubicBezTo>
                  <a:pt x="1451" y="135"/>
                  <a:pt x="1511" y="120"/>
                  <a:pt x="1575" y="114"/>
                </a:cubicBezTo>
                <a:cubicBezTo>
                  <a:pt x="1656" y="94"/>
                  <a:pt x="1736" y="71"/>
                  <a:pt x="1820" y="57"/>
                </a:cubicBezTo>
                <a:cubicBezTo>
                  <a:pt x="1837" y="53"/>
                  <a:pt x="1900" y="44"/>
                  <a:pt x="1918" y="40"/>
                </a:cubicBezTo>
                <a:cubicBezTo>
                  <a:pt x="1943" y="33"/>
                  <a:pt x="1966" y="20"/>
                  <a:pt x="1992" y="16"/>
                </a:cubicBezTo>
                <a:cubicBezTo>
                  <a:pt x="2046" y="7"/>
                  <a:pt x="2026" y="15"/>
                  <a:pt x="2057" y="0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852520" y="760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gt; -1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2556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76320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2200" y="577800"/>
            <a:ext cx="851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in which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variable occurs in the radican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called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adical equatio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It should be noted, that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traneous root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may be introduced when both sides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are squared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must chec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r solutions for a radical equa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8280" y="341136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olve:  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 = 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765440" y="3448080"/>
            <a:ext cx="76176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92160" y="394488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84480" y="398160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920" y="446400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(3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879560" y="450216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197080" y="508788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= 9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184360" y="3124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78000" y="38685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083280" y="3905280"/>
            <a:ext cx="68580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7160" y="44784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048360" y="4514760"/>
            <a:ext cx="990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658200" y="49356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7924680" y="3701880"/>
            <a:ext cx="0" cy="28958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8443800" y="37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858480" y="5835600"/>
            <a:ext cx="3644640" cy="947160"/>
          </a:xfrm>
          <a:prstGeom prst="rect">
            <a:avLst/>
          </a:prstGeom>
          <a:solidFill>
            <a:srgbClr val="bdffd3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192200" y="347328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3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96720" y="144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6019920" y="3708360"/>
            <a:ext cx="312408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632640" y="32767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14600" y="533520"/>
                <a:ext cx="4349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057400" y="228600"/>
                <a:ext cx="508788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77360" y="86688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434960" y="1523880"/>
            <a:ext cx="83844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6800" y="1476360"/>
            <a:ext cx="27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59000" y="88884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282680" y="198108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51880" y="239076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16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848720" y="1066680"/>
            <a:ext cx="0" cy="5334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15200" y="10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3" name="Object 13"/>
          <p:cNvGraphicFramePr/>
          <p:nvPr/>
        </p:nvGraphicFramePr>
        <p:xfrm>
          <a:off x="8305920" y="1752480"/>
          <a:ext cx="298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1752480"/>
                    <a:ext cx="298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4"/>
          <p:cNvSpPr/>
          <p:nvPr/>
        </p:nvSpPr>
        <p:spPr>
          <a:xfrm>
            <a:off x="5715000" y="1676520"/>
            <a:ext cx="31240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1146240" y="4335480"/>
          <a:ext cx="1216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4335480"/>
                    <a:ext cx="1216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6"/>
          <p:cNvSpPr/>
          <p:nvPr/>
        </p:nvSpPr>
        <p:spPr>
          <a:xfrm>
            <a:off x="230400" y="45100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63760" y="45100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91240" y="5348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1" name="Object 19"/>
          <p:cNvGraphicFramePr/>
          <p:nvPr/>
        </p:nvGraphicFramePr>
        <p:xfrm>
          <a:off x="863640" y="5207040"/>
          <a:ext cx="3301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5207040"/>
                    <a:ext cx="33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0"/>
          <p:cNvSpPr/>
          <p:nvPr/>
        </p:nvSpPr>
        <p:spPr>
          <a:xfrm>
            <a:off x="234000" y="5057640"/>
            <a:ext cx="5008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extraneou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 are no real roots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194000" y="9907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5943600" y="1066680"/>
          <a:ext cx="17463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066680"/>
                    <a:ext cx="1746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3"/>
          <p:cNvGraphicFramePr/>
          <p:nvPr/>
        </p:nvGraphicFramePr>
        <p:xfrm>
          <a:off x="5943600" y="1752480"/>
          <a:ext cx="175248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17524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6095880" y="2836800"/>
          <a:ext cx="14479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36800"/>
                    <a:ext cx="1447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6400800" y="3809880"/>
          <a:ext cx="11430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809880"/>
                    <a:ext cx="1143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6705720" y="4803840"/>
          <a:ext cx="869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803840"/>
                    <a:ext cx="86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7086600" y="5791320"/>
          <a:ext cx="46188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5791320"/>
                    <a:ext cx="461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8107200" y="5791320"/>
          <a:ext cx="3589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07200" y="5791320"/>
                    <a:ext cx="358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9"/>
          <p:cNvSpPr/>
          <p:nvPr/>
        </p:nvSpPr>
        <p:spPr>
          <a:xfrm>
            <a:off x="7621920" y="5867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871200" y="19447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1" name="Object 32"/>
          <p:cNvGraphicFramePr/>
          <p:nvPr/>
        </p:nvGraphicFramePr>
        <p:xfrm>
          <a:off x="2184480" y="3327480"/>
          <a:ext cx="9000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4480" y="3327480"/>
                    <a:ext cx="90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3"/>
          <p:cNvSpPr/>
          <p:nvPr/>
        </p:nvSpPr>
        <p:spPr>
          <a:xfrm>
            <a:off x="2362680" y="-4608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2" descr=""/>
          <p:cNvPicPr/>
          <p:nvPr/>
        </p:nvPicPr>
        <p:blipFill>
          <a:blip r:embed="rId1"/>
          <a:stretch/>
        </p:blipFill>
        <p:spPr>
          <a:xfrm>
            <a:off x="0" y="7632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9:19:20Z</dcterms:modified>
  <cp:revision>65</cp:revision>
  <dc:subject/>
  <dc:title>No Slide Title</dc:title>
</cp:coreProperties>
</file>